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25D-7931-4D02-B015-CAEA43A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053-CE99-4B9E-9E4C-DB7BF82C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641-AFED-4E9E-94C9-6859A380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1E6-1C0A-4BC9-9812-3B4B6943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1B8-582E-4E29-8396-C699161C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8DE-0D59-4AC2-B47D-E1B903C5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E60-0712-4F83-B518-038683BA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788-ADAE-4E1F-A88F-9FB7042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849-D69C-4B07-B445-21B18A86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57D-EDE3-41FB-A865-EC32168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E10-92B5-4F97-B19F-21C28AB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71B-B19F-4DB8-832C-2564F3E4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9959-7ADF-40FB-9AF6-000A72386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images.yandex.ru/yandsearch?source=wiz&amp;fp=6&amp;uinfo=ww-1349-wh-623-fw-1124-fh-448-pd-1&amp;p=6&amp;text=&#1083;&#1077;&#1090;&#1103;&#1097;&#1072;&#1103;%20&#1073;&#1072;&#1073;&#1086;&#1095;&#1082;&#1072;%20&#1072;&#1085;&#1080;&#1084;&#1072;&#1096;&#1082;&#1072;%20&#1085;&#1072;%20&#1087;&#1088;&#1086;&#1079;&#1088;&#1072;&#1095;&#1085;&#1086;&#1084;%20&#1092;&#1086;&#1085;&#1077;&amp;noreask=1&amp;pos=193&amp;rpt=simage&amp;lr=4&amp;img_url=http%3A%2F%2Fi287.photobucket.com%2Falbums%2Fll149%2Fglittergn%2Fbutterfly%2Fbtterfly022.gif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059280" y="3068640"/>
            <a:ext cx="5257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«Моя малая Родин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Краснеский рай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" descr="СОЛНЦЕ"/>
          <p:cNvPicPr/>
          <p:nvPr/>
        </p:nvPicPr>
        <p:blipFill>
          <a:blip r:embed="rId1"/>
          <a:stretch/>
        </p:blipFill>
        <p:spPr>
          <a:xfrm>
            <a:off x="468360" y="260280"/>
            <a:ext cx="3456000" cy="263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btterfly0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33360"/>
            <a:ext cx="224136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"/>
          <p:cNvPicPr/>
          <p:nvPr/>
        </p:nvPicPr>
        <p:blipFill>
          <a:blip r:embed="rId4"/>
          <a:stretch/>
        </p:blipFill>
        <p:spPr>
          <a:xfrm>
            <a:off x="468360" y="3141720"/>
            <a:ext cx="24699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464000" y="-92160"/>
            <a:ext cx="21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1" descr="http://kraadm.ru/uploads/images/Blagochiniya/Hram/Krsn.jpg"/>
          <p:cNvPicPr/>
          <p:nvPr/>
        </p:nvPicPr>
        <p:blipFill>
          <a:blip r:embed="rId1"/>
          <a:stretch/>
        </p:blipFill>
        <p:spPr>
          <a:xfrm>
            <a:off x="2428920" y="857160"/>
            <a:ext cx="4487760" cy="3357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000080" y="4079880"/>
            <a:ext cx="75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вято-Илъинский хра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Красно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2" descr="http://kraadm.ru/uploads/images/Blagochiniya/Hram/Gork.jpg"/>
          <p:cNvPicPr/>
          <p:nvPr/>
        </p:nvPicPr>
        <p:blipFill>
          <a:blip r:embed="rId1"/>
          <a:stretch/>
        </p:blipFill>
        <p:spPr>
          <a:xfrm>
            <a:off x="2071800" y="714240"/>
            <a:ext cx="4748040" cy="3357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4364640"/>
            <a:ext cx="892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Храм Рождества Христов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Гор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3" descr="http://kraadm.ru/uploads/images/Blagochiniya/Hram/St_uk.jpg"/>
          <p:cNvPicPr/>
          <p:nvPr/>
        </p:nvPicPr>
        <p:blipFill>
          <a:blip r:embed="rId1"/>
          <a:stretch/>
        </p:blipFill>
        <p:spPr>
          <a:xfrm>
            <a:off x="2143080" y="571680"/>
            <a:ext cx="4853160" cy="3643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0" y="436464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Храм Владимирской ик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жьей матер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. Старое Уколов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4" descr="http://kraadm.ru/uploads/images/Blagochiniya/Hram/L_uk.jpg"/>
          <p:cNvPicPr/>
          <p:nvPr/>
        </p:nvPicPr>
        <p:blipFill>
          <a:blip r:embed="rId1"/>
          <a:stretch/>
        </p:blipFill>
        <p:spPr>
          <a:xfrm>
            <a:off x="2214720" y="642960"/>
            <a:ext cx="46670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458460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Христо-Рождественский хра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Лесное Уколо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http://kraadm.ru/uploads/images/Blagochiniya/Hram/Kamyz.jpg"/>
          <p:cNvPicPr/>
          <p:nvPr/>
        </p:nvPicPr>
        <p:blipFill>
          <a:blip r:embed="rId1"/>
          <a:stretch/>
        </p:blipFill>
        <p:spPr>
          <a:xfrm>
            <a:off x="2071800" y="714240"/>
            <a:ext cx="4929120" cy="328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3903480"/>
            <a:ext cx="91440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Храм Святого Дух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. Камызин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6" descr="http://kraadm.ru/uploads/images/Blagochiniya/Hram/setischehram1.jpg"/>
          <p:cNvPicPr/>
          <p:nvPr/>
        </p:nvPicPr>
        <p:blipFill>
          <a:blip r:embed="rId1"/>
          <a:stretch/>
        </p:blipFill>
        <p:spPr>
          <a:xfrm>
            <a:off x="428760" y="428760"/>
            <a:ext cx="4619520" cy="3085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428760" y="35470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рам Покрова Пресвятой Богород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утраче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Сетищ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Рисунок 7" descr="http://kraadm.ru/uploads/images/Blagochiniya/Hram/setischehram2.jpg"/>
          <p:cNvPicPr/>
          <p:nvPr/>
        </p:nvPicPr>
        <p:blipFill>
          <a:blip r:embed="rId2"/>
          <a:stretch/>
        </p:blipFill>
        <p:spPr>
          <a:xfrm>
            <a:off x="5143680" y="1214280"/>
            <a:ext cx="3619440" cy="4000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446360" y="31197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143680" y="529056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рам Покрова Пресвятой Богороди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Сет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getImage?photoId=561358541321&amp;photoType=0"/>
          <p:cNvPicPr/>
          <p:nvPr/>
        </p:nvPicPr>
        <p:blipFill>
          <a:blip r:embed="rId1"/>
          <a:stretch/>
        </p:blipFill>
        <p:spPr>
          <a:xfrm>
            <a:off x="428760" y="357120"/>
            <a:ext cx="5519520" cy="366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server\Рабочий стол\46197127.jpg"/>
          <p:cNvPicPr/>
          <p:nvPr/>
        </p:nvPicPr>
        <p:blipFill>
          <a:blip r:embed="rId2"/>
          <a:stretch/>
        </p:blipFill>
        <p:spPr>
          <a:xfrm>
            <a:off x="3643200" y="3071880"/>
            <a:ext cx="5091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Documents and Settings\server\Рабочий стол\04.jpg"/>
          <p:cNvPicPr/>
          <p:nvPr/>
        </p:nvPicPr>
        <p:blipFill>
          <a:blip r:embed="rId1"/>
          <a:stretch/>
        </p:blipFill>
        <p:spPr>
          <a:xfrm>
            <a:off x="571680" y="500040"/>
            <a:ext cx="550044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server\Рабочий стол\5587b409-288e-0565-288e-056a84adf119.photo.0.jpg"/>
          <p:cNvPicPr/>
          <p:nvPr/>
        </p:nvPicPr>
        <p:blipFill>
          <a:blip r:embed="rId2"/>
          <a:stretch/>
        </p:blipFill>
        <p:spPr>
          <a:xfrm>
            <a:off x="3571920" y="3000240"/>
            <a:ext cx="4910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расненский район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C:\Documents and Settings\server\Рабочий стол\15832_33250.jpg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4038480" y="765000"/>
            <a:ext cx="51055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16%20(10)"/>
          <p:cNvPicPr/>
          <p:nvPr/>
        </p:nvPicPr>
        <p:blipFill>
          <a:blip r:embed="rId1"/>
          <a:stretch/>
        </p:blipFill>
        <p:spPr>
          <a:xfrm>
            <a:off x="971640" y="1413000"/>
            <a:ext cx="5113080" cy="3408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192240" y="4791600"/>
            <a:ext cx="894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амое красивое место на земле – это родной кра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колько приятных воспоминаний связано с этим мест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милый дом, в котором мама ждёт из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каком бы уголке земли ни оказался человек, родной край 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удет никог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krasnoe"/>
          <p:cNvPicPr/>
          <p:nvPr/>
        </p:nvPicPr>
        <p:blipFill>
          <a:blip r:embed="rId2"/>
          <a:stretch/>
        </p:blipFill>
        <p:spPr>
          <a:xfrm>
            <a:off x="7380360" y="333360"/>
            <a:ext cx="1282680" cy="1582920"/>
          </a:xfrm>
          <a:prstGeom prst="rect">
            <a:avLst/>
          </a:prstGeom>
          <a:ln w="0">
            <a:noFill/>
          </a:ln>
        </p:spPr>
      </p:pic>
      <p:sp>
        <p:nvSpPr>
          <p:cNvPr id="49" name="Подзаголовок 2"/>
          <p:cNvSpPr/>
          <p:nvPr/>
        </p:nvSpPr>
        <p:spPr>
          <a:xfrm>
            <a:off x="6012000" y="2133720"/>
            <a:ext cx="2736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6"/>
          <p:cNvSpPr txBox="1"/>
          <p:nvPr/>
        </p:nvSpPr>
        <p:spPr>
          <a:xfrm>
            <a:off x="826920" y="40464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обро пожаловать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 Красненский район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429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енский район расположен на юго-востоке Белгородской области. Район граничит на севере со Старооскольским городским округом, на востоке – с Воронежской областью, на юго-востоке – с Алексеевским, на юго-западе – с Красногвардейским, на западе – с Чернянским и Новооскольским районами. Территория района составляет 851,9 кв.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map"/>
          <p:cNvPicPr/>
          <p:nvPr/>
        </p:nvPicPr>
        <p:blipFill>
          <a:blip r:embed="rId1"/>
          <a:stretch/>
        </p:blipFill>
        <p:spPr>
          <a:xfrm>
            <a:off x="2143080" y="1214280"/>
            <a:ext cx="4751280" cy="2959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979280" y="189000"/>
            <a:ext cx="497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server\Рабочий стол\20130401_143226.jpg"/>
          <p:cNvPicPr/>
          <p:nvPr/>
        </p:nvPicPr>
        <p:blipFill>
          <a:blip r:embed="rId1"/>
          <a:stretch/>
        </p:blipFill>
        <p:spPr>
          <a:xfrm>
            <a:off x="571680" y="50004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server\Рабочий стол\11306.jpg"/>
          <p:cNvPicPr/>
          <p:nvPr/>
        </p:nvPicPr>
        <p:blipFill>
          <a:blip r:embed="rId2"/>
          <a:stretch/>
        </p:blipFill>
        <p:spPr>
          <a:xfrm>
            <a:off x="428760" y="3143160"/>
            <a:ext cx="307152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server\Рабочий стол\d9157c24cda6b364f23e7da856ae0e2f.JPG"/>
          <p:cNvPicPr/>
          <p:nvPr/>
        </p:nvPicPr>
        <p:blipFill>
          <a:blip r:embed="rId3"/>
          <a:stretch/>
        </p:blipFill>
        <p:spPr>
          <a:xfrm>
            <a:off x="3786120" y="3429000"/>
            <a:ext cx="4772160" cy="297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3929040" y="428760"/>
            <a:ext cx="4857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елгородская обла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server\Рабочий стол\karta1.jpg"/>
          <p:cNvPicPr/>
          <p:nvPr/>
        </p:nvPicPr>
        <p:blipFill>
          <a:blip r:embed="rId1"/>
          <a:stretch/>
        </p:blipFill>
        <p:spPr>
          <a:xfrm>
            <a:off x="806400" y="1500120"/>
            <a:ext cx="7551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Жданов Алексей Митрофан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одержимое 3" descr="http://museumkra.ru/uploads/image/Gdanov_Aleksey_Mitrofanovich.jpg"/>
          <p:cNvPicPr/>
          <p:nvPr/>
        </p:nvPicPr>
        <p:blipFill>
          <a:blip r:embed="rId1"/>
          <a:stretch/>
        </p:blipFill>
        <p:spPr>
          <a:xfrm>
            <a:off x="2714760" y="1857240"/>
            <a:ext cx="3182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аснев Алексей Никанор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3" descr="http://museumkra.ru/uploads/image/Masnev_A.N.%281%29.jpg"/>
          <p:cNvPicPr/>
          <p:nvPr/>
        </p:nvPicPr>
        <p:blipFill>
          <a:blip r:embed="rId1"/>
          <a:stretch/>
        </p:blipFill>
        <p:spPr>
          <a:xfrm>
            <a:off x="2857680" y="200016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убарых Михаил Дмитрие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Содержимое 3" descr="http://museumkra.ru/uploads/image/Chubarih_M.D..jpg"/>
          <p:cNvPicPr/>
          <p:nvPr/>
        </p:nvPicPr>
        <p:blipFill>
          <a:blip r:embed="rId1"/>
          <a:stretch/>
        </p:blipFill>
        <p:spPr>
          <a:xfrm>
            <a:off x="3381480" y="1789200"/>
            <a:ext cx="238104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ерой Советского союз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олосов Михаил Ефимович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3" descr="http://museumkra.ru/uploads/image/Kolosov_Mihail__Efimovich.jpg"/>
          <p:cNvPicPr/>
          <p:nvPr/>
        </p:nvPicPr>
        <p:blipFill>
          <a:blip r:embed="rId1"/>
          <a:stretch/>
        </p:blipFill>
        <p:spPr>
          <a:xfrm>
            <a:off x="3164040" y="1600200"/>
            <a:ext cx="281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24-04-23T10:22:41Z</dcterms:modified>
  <cp:revision>72</cp:revision>
  <dc:subject/>
  <dc:title>Слайд 1</dc:title>
</cp:coreProperties>
</file>